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07533-DBD3-4FE1-BCFF-A8F775184D1C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kaidrės numerio vietos rezervavimo ženklas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33BF2-A9D6-4230-BAFB-0D40593C572B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2602-B1C7-44E4-B0A7-9B0280EC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833-DB90-4FF2-84E1-F5F1A5E0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D9E2-2A42-4DF2-9586-0F88DD64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D85F-999C-4378-8304-C0647E01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2252-6F24-4857-9A4B-5D3CC924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EB04-7B38-408E-A459-30139744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B371-E38D-452E-968F-3B1907FF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7594-3AC7-43DA-8B6C-4413C4A8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B79F-1397-4B2B-BB7D-1520637F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F2D1-7CC6-4150-BA7D-68AB586D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DC7E-38F9-4B16-B75D-C5F8047E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E28-6736-4B34-82EE-B345E4BE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C551-FEA3-428D-A479-61B5C9FB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8B54-A5FD-4944-90BE-6A7E47AA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6C30-C082-4A2F-9453-9C20933E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A60D-477B-49C3-9B21-FF84573C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095D-A3D2-485D-AD53-A3E5FD31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9DDCF-AE49-4295-A524-78447AFF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8FCE4-34DA-48C2-9FD9-0784887E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21CE1-6DC1-4266-8003-BA52B5E4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4560F-CD83-485F-B407-38D66276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249CC-EAF1-4EEA-8D6B-0D483351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5198-F5B9-4898-9990-390C6142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C1F4A-2E6A-4DD0-A125-B15DCA33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13B7A-EE58-456E-BF69-2AE4F6ED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40351-4B41-4CB4-B2FB-A4DE870B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0683A-374A-4C77-A511-30828271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975DE-4A95-4A1A-885D-9FFF1F90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71150-EBC7-4516-A6D2-A66E36AC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C7EC6-5944-42D2-9391-677DDCE9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561E3-F6A3-4240-A259-A4F1A0E4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87B09-C390-4583-9672-445E9D31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AB1F1-BBA7-4945-8EB3-300737F7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978-69B7-4FFB-95A2-131E2903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7E9CC-0C38-4393-AA58-0F986DA8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CFF90-4D0C-4A8E-815E-35F2DE53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410D2-0645-4908-965F-400FF2E6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E576A-BBB1-44C9-A84A-B9844E5B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C03F3-FFCF-4775-9638-ECA4DD81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116C9-5783-45C5-A27C-C16656D5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42379-D915-486B-8DDA-DD313500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E3EA0-6ED2-4906-9FC4-804D5DFC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FF2DD-88AB-4B12-94C5-8A475B50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E5167-6EEE-427D-9F18-6E5BC0E9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43F2-8A31-4E99-BD36-6878EE79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F2639-4110-499A-8DB0-AEA5ADAD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12293-4820-4EEC-96ED-7D38E37F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C478F-FE2E-41D3-8820-0C9F5A71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41870-F434-4D00-A408-121EC969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7C40B-FA81-42D2-BD26-31A4FE61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4ED34-73DD-4251-93C1-9B77309C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469BA-3622-4BCE-A84A-E2455870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63778-5644-4EB7-AFE5-02740F52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E624A-1CB4-4C5D-9944-AF778E2E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45DB2-2588-48B5-B023-E3059E14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DE2-66FE-44DA-BC3B-0005A853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EAC8D-A686-4C13-8A79-C08766CB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24DE-35BD-40B2-B44A-19C4A267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0437-CA9B-4868-9F89-90429841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DA7-5E3D-48AE-8310-3C32C187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ačiakampis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Stačiakampis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D8F91-8647-4635-9618-36825D95C9BD}" type="datetime">
              <a:rPr b="0" lang="lt-LT" sz="1000" spc="-1" strike="noStrike">
                <a:solidFill>
                  <a:srgbClr val="b13f9a"/>
                </a:solidFill>
                <a:latin typeface="Times New Roman"/>
              </a:rPr>
              <a:t>2026 metų liepos mėnesio 28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FC903-7C2D-43E6-84AC-E7929818BD63}" type="slidenum">
              <a:rPr b="0" lang="lt-LT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Stačiakampis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Stačiakampis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iesioji jungtis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A1472-37DC-4ECF-B391-06110557E6EB}" type="datetime">
              <a:rPr b="0" lang="lt-LT" sz="1000" spc="-1" strike="noStrike">
                <a:solidFill>
                  <a:srgbClr val="ffffff"/>
                </a:solidFill>
                <a:latin typeface="Times New Roman"/>
              </a:rPr>
              <a:t>2026 metų liepos mėnesio 28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AF24F-03F4-461A-8A91-D662547CCDE8}" type="slidenum">
              <a:rPr b="0" lang="lt-LT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Stačiakampis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Stačiakampis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C63F1-9EED-41B9-AC58-5B98779F5777}" type="datetime">
              <a:rPr b="0" lang="lt-LT" sz="1000" spc="-1" strike="noStrike">
                <a:solidFill>
                  <a:srgbClr val="b13f9a"/>
                </a:solidFill>
                <a:latin typeface="Times New Roman"/>
              </a:rPr>
              <a:t>2026 metų liepos mėnesio 28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822041-104C-4545-AACD-58434A88B3BA}" type="slidenum">
              <a:rPr b="0" lang="lt-LT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ačiakampis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ačiakampis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FA645-7269-4EBE-BB99-9ACCBFFAB566}" type="datetime">
              <a:rPr b="0" lang="lt-LT" sz="1000" spc="-1" strike="noStrike">
                <a:solidFill>
                  <a:srgbClr val="f4e7ed"/>
                </a:solidFill>
                <a:latin typeface="Times New Roman"/>
              </a:rPr>
              <a:t>2026 metų liepos mėnesio 28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59FC2-0EAB-44FF-9D61-EF0EE4A82BF1}" type="slidenum">
              <a:rPr b="0" lang="lt-LT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Stačiakampis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Stačiakampis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96756A-E9B2-4ED7-95FD-245592318F54}" type="datetime">
              <a:rPr b="0" lang="lt-LT" sz="1000" spc="-1" strike="noStrike">
                <a:solidFill>
                  <a:srgbClr val="b13f9a"/>
                </a:solidFill>
                <a:latin typeface="Times New Roman"/>
              </a:rPr>
              <a:t>2026 metų liepos mėnesio 28 diena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t-LT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D3B55-0C28-4322-968A-7B733AA8403B}" type="slidenum">
              <a:rPr b="0" lang="lt-LT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108400" cy="28656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71592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ffffff"/>
                </a:solidFill>
                <a:latin typeface="Trebuchet MS"/>
              </a:rPr>
              <a:t>Ar socialinėse medijose pateikiama teisinga informacija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773000"/>
            <a:ext cx="3827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Tie, kas rašo komentarus, yra nepažįstami. Daugelis komentatorių – anonimai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Komentatoriai būna šališki, kartais gauna pinigų už komentavimą užsakovo naudai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Skaidrės numerio vietos rezervavimo ženklas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B9DA8-ECB0-4538-91D5-4A5217DB439B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Turinio vietos rezervavimo ženklas 4" descr=""/>
          <p:cNvPicPr/>
          <p:nvPr/>
        </p:nvPicPr>
        <p:blipFill>
          <a:blip r:embed="rId2"/>
          <a:stretch/>
        </p:blipFill>
        <p:spPr>
          <a:xfrm>
            <a:off x="4357800" y="1773360"/>
            <a:ext cx="31399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844280"/>
            <a:ext cx="72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mocinga kalba labiau nei faktai įtikinamai formuoja visuomenės nuomonę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mobilizuoja visuomenės grupes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;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gali padidinti ar sumažinti pasitikėjimą valstybe, asmenimis, organizacijomis, prekių ženklais ir t.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t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Skaidrės numerio vietos rezervavimo ženklas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C6304-40E2-4B16-B13E-9C4598FA1823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609480"/>
            <a:ext cx="7354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Trebuchet MS"/>
              </a:rPr>
              <a:t>Atkreipkite dėmesį į tai, kad dalis skaitytojų net nepaskaitę naujienos iš karto pradeda skaityti komentarus ir susidaro nuomonę apie problemą ne iš pačios naujienos, bet iš jos vertinimo</a:t>
            </a:r>
            <a:r>
              <a:rPr b="1" lang="lt-LT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Skaidrės numerio vietos rezervavimo ženklas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88F2B-3633-45EE-B991-096986D551F2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542880" y="-249120"/>
            <a:ext cx="7236000" cy="11397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324000" y="1255320"/>
            <a:ext cx="7920000" cy="55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rebuchet MS"/>
              </a:rPr>
              <a:t>Internetinis turinys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 kurį žmonės sukūrė naudodamiesi lengvai prieinamomis technologijomis, leidžiančiomis paprastai sukurti ir paskleisti informaciją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Tinklaraščiai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Nezinau.lt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Socialinių tinklų svetainės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Facebook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Mikrotinklaraščiai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Twitter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Vaizdo dalinimosi portalai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Youtub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Nuotraukų dali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j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imosi portalai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Instagram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Wiki puslapiai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Wikipedia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Klausimų ir atsakymų puslapiai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Yahoo Answer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Virtualūs pasauliai (pvz.</a:t>
            </a:r>
            <a:r>
              <a:rPr b="0" lang="lt-LT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 Second Lif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</a:rPr>
              <a:t>Kitos interaktyvios virtualaus bendravimo priemonė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Skaidrės numerio vietos rezervavimo ženklas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BF771-BFE3-4DE7-9E9B-CCC5F008DC1C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324000" y="19378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Jų skirtumai yra ši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įsitraukimo laipsni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prieinamumo lygi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vaidmenų kintamuma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naujuma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turinio kintamuma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tarpusavio sąsajo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bendruomeniškuma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pasiekiamuma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Skaidrės numerio vietos rezervavimo ženklas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3D89E-1CB4-4D03-9324-169D67967BDF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395280" y="1924200"/>
            <a:ext cx="7238880" cy="48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Žinomi asmenys savo įrašuose pateikia įdomių minčių publikacijom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Oficialūs, patikimi šaltiniai ypatingų situacijų atveju dažnai  informaciją socialiniuose tinkluose pateikia greičiau nei žurnalistams, o šie ją kartoj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Bet kurio vartotojo įdomi naujiena, pastebėta žurnalisto, gali tapti žiniasklaidos objektu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Skaidrės numerio vietos rezervavimo ženklas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022E2-DEC2-4E7E-9105-73A07F531FAE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483920"/>
            <a:ext cx="75708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rebuchet MS"/>
              </a:rPr>
              <a:t>Taigi Jūsų paskelbta naujiena vieną dieną gali tapti didelio interneto portalo teksto turiniu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i="1" lang="lt-LT" sz="2800" spc="-1" strike="noStrike">
                <a:solidFill>
                  <a:srgbClr val="000000"/>
                </a:solidFill>
                <a:latin typeface="Trebuchet MS"/>
              </a:rPr>
              <a:t>Tačiau ar tikrai norite, kad eilinį Jūsų įrašą „Facebooke“ matytų visa Lietuva?..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Skaidrės numerio vietos rezervavimo ženklas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9D3DC6-1B5F-47D8-A195-2D163EA194AF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7204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Įstatymai, numatantys, kokia informacija neskelbtina žinias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laidos priemonėse, taikomi ir socialinėms medijoms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Socialinėse medijose skelbiama informacija taip pat aktyviai tikrinama visuomenės, pedagogų, darbdavių, vadybininkų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Jeigu  informacija net nepažeidžia įstatymų, verta pagalvoti, ar tikrai norima, kad žmonės apie tai žinotų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Skaidrės numerio vietos rezervavimo ženklas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61BA6-F7F7-405F-A9BC-CC6614960FD7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480960" y="133200"/>
            <a:ext cx="8004240" cy="1629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915920"/>
            <a:ext cx="723888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Informacija yra teisinga tada, kai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ą pateikia oficialūs šaltiniai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ą pateikia vieši asmenys, kurių reputacija lemia jų karjerą, statusą visuomenėje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asmeniškai informuoja draugai, kuriais pasitikim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Skaidrės numerio vietos rezervavimo ženklas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5EAC7-074C-4533-8658-CD43F07B28E4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785000" cy="1139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934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Informacijos teisingumu reikėtų suabejoti tada, kai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ą skelbiantys žmonės nepateikia tikrojo savo vardo ir pavardės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ją skelbiantys žmonės nepateikia savo 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nuotrauko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pateikia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mos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nuorod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os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 į neaiškaus pobūdžio puslapius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kiti abejoja dėl 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asmens -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informacijos šaltinio patikimumo socialiniuose tinkluose ir net viešojoje erdvėj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Skaidrės numerio vietos rezervavimo ženklas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A5292-E5D8-49DE-AFE4-87A0D33681AE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840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„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Mikės melagėlio“ efektas: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daugybę kartų pamelavus žmonės daugiau nebetikės, o tai gali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 turėti skaudžių pasekmių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Socialinėse medijose visi greitai sužino, kas yra melagis: 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žmonės gali keistis nuomonėmis</a:t>
            </a: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 ir komentarais</a:t>
            </a:r>
            <a:r>
              <a:rPr b="0" lang="cs-CZ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rebuchet MS"/>
              </a:rPr>
              <a:t>Darbdaviai tikrina socialines medijas, todėl darbuotojų paviešintas įstatymų ir etikos normų neatitinkantis turinys gali užkirsti kelią jų karjera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Skaidrės numerio vietos rezervavimo ženklas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D967E-F1A2-4D52-9A22-9B5D4E6FFA73}" type="slidenum">
              <a:rPr b="0" lang="lt-L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11:01:45Z</dcterms:created>
  <dc:creator>Egidijus Jurgelionis</dc:creator>
  <dc:description/>
  <dc:language>en-US</dc:language>
  <cp:lastModifiedBy>Gražina Jurgutavičiūtė</cp:lastModifiedBy>
  <dcterms:modified xsi:type="dcterms:W3CDTF">2015-12-30T14:42:32Z</dcterms:modified>
  <cp:revision>51</cp:revision>
  <dc:subject/>
  <dc:title>Žiniasklaida ir socialinės medijos</dc:title>
</cp:coreProperties>
</file>