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053EC-D29F-4E90-8E19-55DAD615EDF1}"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1143000"/>
            <a:ext cx="4114800" cy="3086280"/>
          </a:xfrm>
          <a:prstGeom prst="rect">
            <a:avLst/>
          </a:prstGeom>
          <a:ln w="0">
            <a:noFill/>
          </a:ln>
        </p:spPr>
      </p:sp>
      <p:sp>
        <p:nvSpPr>
          <p:cNvPr id="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Žiniasklaida gali daryti įtaką visuomenei tik tuomet, kai ja pasitikima. Sąjūdžio metais ir po nepriklausomybės atkūrimo Lietuvoje pasitikėjimas žiniasklaida buvo vienas didžiausių Europoje ir siekė net iki 80 proc. Tuo metu žurnalistai savo darbą suvokė kaip visuomenės sanitaro, turinčio atskleisti visuomenės, politikos ir kriminalinio pasaulio negeroves. Be to, tuo metu žiniasklaidos ir verslo santykiai nebuvo tokie glaudūs. Sociologų teigimu, aukštas pasitikėjimas žiniasklaida yra besivystančių demokratijų fenomenas. Aukštas pasitikėjimas žiniasklaida šiuo metu taip pat pastebimas jaunose demokratijose, pavyzdžiui, kai kuriose Afrikos šal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Visgi pasitikėjimas ar nepasitikėjimas žiniasklaida neatskleidžia jos kokybės, o tik parodo žiniasklaidos vartotojų kritiškumą ir pasirengimą vertinti naujienas.</a:t>
            </a:r>
            <a:endParaRPr b="0" lang="en-US" sz="1200" spc="-1" strike="noStrike">
              <a:solidFill>
                <a:srgbClr val="000000"/>
              </a:solidFill>
              <a:latin typeface="Calibri"/>
            </a:endParaRPr>
          </a:p>
        </p:txBody>
      </p:sp>
      <p:sp>
        <p:nvSpPr>
          <p:cNvPr id="67"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528C4-D628-44F6-883B-012BF176AB66}"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371600" y="1143000"/>
            <a:ext cx="4114800" cy="3086280"/>
          </a:xfrm>
          <a:prstGeom prst="rect">
            <a:avLst/>
          </a:prstGeom>
          <a:ln w="0">
            <a:noFill/>
          </a:ln>
        </p:spPr>
      </p:sp>
      <p:sp>
        <p:nvSpPr>
          <p:cNvPr id="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Komentaras. </a:t>
            </a:r>
            <a:r>
              <a:rPr b="0" lang="cs-CZ" sz="1200" spc="-1" strike="noStrike">
                <a:solidFill>
                  <a:srgbClr val="000000"/>
                </a:solidFill>
                <a:latin typeface="Calibri"/>
              </a:rPr>
              <a:t>Palaipsniui Lietuvoje pasitikėjimas žiniasklaida ėmė mažėti. Ypač didelis smukimas pastebimas buvusio prezidento Rolando Pakso apkaltos metu, kai visuomenė pastebėjo, jog žiniasklaida pasiskirstė į dvi priešingas stovyklas (kokias stovykl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a:t>
            </a:r>
            <a:r>
              <a:rPr b="0" lang="lt-LT" sz="1200" spc="-1" strike="noStrike">
                <a:solidFill>
                  <a:srgbClr val="000000"/>
                </a:solidFill>
                <a:latin typeface="Calibri"/>
              </a:rPr>
              <a:t> </a:t>
            </a:r>
            <a:r>
              <a:rPr b="0" lang="cs-CZ" sz="1200" spc="-1" strike="noStrike">
                <a:solidFill>
                  <a:srgbClr val="000000"/>
                </a:solidFill>
                <a:latin typeface="Calibri"/>
              </a:rPr>
              <a:t>, 2013 metų pabaigoje spauda Lietuvoje pasitikėjo apie 38 proc. šalies gyvenotojų, o nepasitikėjo – 32 proc. Eurospos Sąjungos šalyse pasitikėjimas spauda siekė 34 proc., o nepasitikėjimas – 46 proc. Palyginimui, mažiausias pasitikėjimas spauda fiksuotas Didžiojoje Britanijoje: šioje šalyje spauda pasitikėjo apie 28 proc. gyventojų, o nepasitikėjo daugiau nei pusė – 55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Calibri"/>
              </a:rPr>
              <a:t> </a:t>
            </a:r>
            <a:r>
              <a:rPr b="0" lang="lt-LT" sz="1200" spc="-1" strike="noStrike">
                <a:solidFill>
                  <a:srgbClr val="000000"/>
                </a:solidFill>
                <a:latin typeface="Calibri"/>
              </a:rPr>
              <a:t>Reikia nuorodos kur galima rasti šiuos duomenis, jei po kurio laiko jie pasikeist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D2190-8133-497B-A3DF-F9A1CEBFBAB0}"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1143000"/>
            <a:ext cx="4114800" cy="3086280"/>
          </a:xfrm>
          <a:prstGeom prst="rect">
            <a:avLst/>
          </a:prstGeom>
          <a:ln w="0">
            <a:noFill/>
          </a:ln>
        </p:spPr>
      </p:sp>
      <p:sp>
        <p:nvSpPr>
          <p:cNvPr id="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staruoju metu itin didelis dėmesys skiriamas internetinės žiniasklaidos tyrimams, nes vis daugiau Lietuvos ir Europos Sąjungos gyventojų informacijos ieško ir naujienas skaito internete. Dėl populiarumo internetas tampa nauju manipuliavimo įrankiu, todėl svarbu įvertinti ir gyventojų pasitikėjimą internetine žiniasklai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Eurobarometro“ duomenimis, 2013 metų pabaigoje internetine žiniasklaida pasitikėjo 40 proc. Lietuvos gyventojų, o nepasitikėjo 54 proc. Taigi Lietuvos gyventojai linkę labiau pasitikėti internetine žiniasklaida nei spauda. Analogiška situacija ir daugelyje kitų Europos Sąjungos šalių: vidutiniškai Europos Sąjungoje internetine žiniasklaida pasitikėjo 41 proc. gyventojų, o nepasitikėjo – 53 proc. Įdomu tai, kad gerokai kritiškiau intenetinę žiniasklaidą nei spaudą vertina britai. Pasitikėjimas internetine žiniasklaida Didžiojoje Britanijoje siekė vos 19 proc., o nepasitikėjimas – 78 pr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iesa, būtina suvokti, kad įvairaus žanro tekstams keliami skirtingi reikalavimai. Pavyzdžiui, redakcijos vedamajame, komentare gali būti pateikiama autoriaus nuomonė, tekstas gali būti subjektyvus. Tačiau informacinius tekstus/naujienas rengiantys žurnalistai to negali sau leisti.</a:t>
            </a:r>
            <a:endParaRPr b="0" lang="en-US" sz="1200" spc="-1" strike="noStrike">
              <a:solidFill>
                <a:srgbClr val="000000"/>
              </a:solidFill>
              <a:latin typeface="Calibri"/>
            </a:endParaRPr>
          </a:p>
        </p:txBody>
      </p:sp>
      <p:sp>
        <p:nvSpPr>
          <p:cNvPr id="73" name="Skaidrės numerio vietos rezervavimo ženklas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21113-62B8-40CD-874A-0ABEFCA6F480}" type="slidenum">
              <a:rPr b="0" lang="lt-L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66968-620B-414A-B687-5543F6A61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CAE32-0855-422F-A325-A0B6222E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B365-7053-4391-AE41-55C3F8C6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EB5C7-9A58-4BDF-9103-14DE88AA2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21D8-5CDB-46AA-B6C3-76F2CAD76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61B6-B51D-4A54-97FD-53E61E25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1B21C-7913-41A0-9597-AC952010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01BAA-9EDE-47BC-A166-8E6E38377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8287-84D5-4D6E-BA6E-FDB60DE16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03C18-CC6B-42AA-9DDF-687F4DDF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645C5-67D6-4504-955F-EDD66118C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06F7-583B-4DE2-AB94-6F99B6313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7C447-399C-42F4-A11B-C97DE27B5F0B}" type="datetime">
              <a:rPr b="0" lang="lt-LT" sz="1200" spc="-1" strike="noStrike">
                <a:solidFill>
                  <a:srgbClr val="898989"/>
                </a:solidFill>
                <a:latin typeface="Calibri"/>
              </a:rPr>
              <a:t>2026 metų liepos mėnesio 28 diena</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lt-L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FD351-A3C4-4779-A18A-62B1543EF782}" type="slidenum">
              <a:rPr b="0" lang="lt-L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aip kritiškai skaityti naujieną?</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898989"/>
                </a:solidFill>
                <a:latin typeface="Calibri"/>
              </a:rPr>
              <a:t>Kaip įvertinti, ar galima tikėti žiniasklaidoje pateikta informacij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žiniasklaida Lietuvoj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Sąjūdžio metais ir po nepriklausomybės atgavimo Lietuvoje žiniasklaida pasitikėta labiau nei bet kurioje kitoje Europos šaly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Žiniasklaida pasitikėjo apie 80 proc. gyventojų.</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itikėjimas ar nepasitikėjimas žiniasklaida neatskleidžia jos kokybės, o tik parodo žiniasklaidos vartotojų kritiškumą ir pasirengimą vertinti naujien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Pasitikėjimas spauda (2013 m.)</a:t>
            </a:r>
            <a:endParaRPr b="0" lang="en-US" sz="4400" spc="-1" strike="noStrike">
              <a:solidFill>
                <a:srgbClr val="000000"/>
              </a:solidFill>
              <a:latin typeface="Calibri"/>
            </a:endParaRPr>
          </a:p>
        </p:txBody>
      </p:sp>
      <p:pic>
        <p:nvPicPr>
          <p:cNvPr id="53"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600" spc="-1" strike="noStrike">
                <a:solidFill>
                  <a:srgbClr val="000000"/>
                </a:solidFill>
                <a:latin typeface="Calibri"/>
              </a:rPr>
              <a:t>Pasitikėjimas interneto portalais (2013 m.)</a:t>
            </a:r>
            <a:endParaRPr b="0" lang="en-US" sz="3600" spc="-1" strike="noStrike">
              <a:solidFill>
                <a:srgbClr val="000000"/>
              </a:solidFill>
              <a:latin typeface="Calibri"/>
            </a:endParaRPr>
          </a:p>
        </p:txBody>
      </p:sp>
      <p:pic>
        <p:nvPicPr>
          <p:cNvPr id="55" name="Content Placeholder 3" descr=""/>
          <p:cNvPicPr/>
          <p:nvPr/>
        </p:nvPicPr>
        <p:blipFill>
          <a:blip r:embed="rId1"/>
          <a:stretch/>
        </p:blipFill>
        <p:spPr>
          <a:xfrm>
            <a:off x="457200" y="1596960"/>
            <a:ext cx="82296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lt-LT" sz="3200" spc="-1" strike="noStrike">
                <a:solidFill>
                  <a:srgbClr val="000000"/>
                </a:solidFill>
                <a:latin typeface="Calibri"/>
              </a:rPr>
              <a:t>Norint įvertinti naujienos patikimumą reikia atsižvelgti į šiuos kriterijus:</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Pagrindinius naujienos elemen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autorių, jo nuomon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s veikėj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Faktus ir aplinky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aujienoje pateikiamą citatą, jos autori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000000"/>
                </a:solidFill>
                <a:latin typeface="Calibri"/>
              </a:rPr>
              <a:t>Nuomonių įvairov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Įvertinkite šias tris fotografijas </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iš jų galite pavadinti nešališkomi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as rodančias kritišką, ironišką požiūrį</a:t>
            </a:r>
            <a:r>
              <a:rPr b="0" lang="lt-LT" sz="3200" spc="-1" strike="noStrike">
                <a:solidFill>
                  <a:srgbClr val="000000"/>
                </a:solidFill>
                <a:latin typeface="Calibri"/>
              </a:rPr>
              <a:t>,</a:t>
            </a:r>
            <a:r>
              <a:rPr b="0" lang="cs-CZ" sz="3200" spc="-1" strike="noStrike">
                <a:solidFill>
                  <a:srgbClr val="000000"/>
                </a:solidFill>
                <a:latin typeface="Calibri"/>
              </a:rPr>
              <a:t> publikacijos veikėją?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uriose iš jų veikėjas išaukštinamas?</a:t>
            </a:r>
            <a:endParaRPr b="0" lang="en-US" sz="3200" spc="-1" strike="noStrike">
              <a:solidFill>
                <a:srgbClr val="000000"/>
              </a:solidFill>
              <a:latin typeface="Calibri"/>
            </a:endParaRPr>
          </a:p>
        </p:txBody>
      </p:sp>
      <p:pic>
        <p:nvPicPr>
          <p:cNvPr id="60" name="Picture 3" descr="jonas-vytautas-zukas-65374764.jpg"/>
          <p:cNvPicPr/>
          <p:nvPr/>
        </p:nvPicPr>
        <p:blipFill>
          <a:blip r:embed="rId1"/>
          <a:stretch/>
        </p:blipFill>
        <p:spPr>
          <a:xfrm>
            <a:off x="-11160" y="3916440"/>
            <a:ext cx="3078360" cy="2054160"/>
          </a:xfrm>
          <a:prstGeom prst="rect">
            <a:avLst/>
          </a:prstGeom>
          <a:ln w="0">
            <a:noFill/>
          </a:ln>
        </p:spPr>
      </p:pic>
      <p:pic>
        <p:nvPicPr>
          <p:cNvPr id="61" name="Picture 4" descr="sergejus-lavrovas-63805454.jpg"/>
          <p:cNvPicPr/>
          <p:nvPr/>
        </p:nvPicPr>
        <p:blipFill>
          <a:blip r:embed="rId2"/>
          <a:stretch/>
        </p:blipFill>
        <p:spPr>
          <a:xfrm>
            <a:off x="3067200" y="3925800"/>
            <a:ext cx="3079440" cy="2054160"/>
          </a:xfrm>
          <a:prstGeom prst="rect">
            <a:avLst/>
          </a:prstGeom>
          <a:ln w="0">
            <a:noFill/>
          </a:ln>
        </p:spPr>
      </p:pic>
      <p:pic>
        <p:nvPicPr>
          <p:cNvPr id="62" name="Picture 5" descr="25.jpg"/>
          <p:cNvPicPr/>
          <p:nvPr/>
        </p:nvPicPr>
        <p:blipFill>
          <a:blip r:embed="rId3"/>
          <a:stretch/>
        </p:blipFill>
        <p:spPr>
          <a:xfrm>
            <a:off x="6146640" y="3916440"/>
            <a:ext cx="3068640" cy="20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000000"/>
                </a:solidFill>
                <a:latin typeface="Calibri"/>
              </a:rPr>
              <a:t>Kūrybinė užduotis</a:t>
            </a:r>
            <a:endParaRPr b="0" lang="en-US" sz="4400" spc="-1" strike="noStrike">
              <a:solidFill>
                <a:srgbClr val="000000"/>
              </a:solidFill>
              <a:latin typeface="Calibri"/>
            </a:endParaRPr>
          </a:p>
        </p:txBody>
      </p:sp>
      <p:sp>
        <p:nvSpPr>
          <p:cNvPr id="64" name=""/>
          <p:cNvSpPr txBox="1"/>
          <p:nvPr/>
        </p:nvSpPr>
        <p:spPr>
          <a:xfrm>
            <a:off x="457200" y="1125000"/>
            <a:ext cx="8229600" cy="500076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2400" spc="-1" strike="noStrike">
                <a:solidFill>
                  <a:srgbClr val="000000"/>
                </a:solidFill>
                <a:latin typeface="Calibri"/>
              </a:rPr>
              <a:t>Situacija.</a:t>
            </a:r>
            <a:r>
              <a:rPr b="1" lang="lt-LT" sz="2400" spc="-1" strike="noStrike">
                <a:solidFill>
                  <a:srgbClr val="000000"/>
                </a:solidFill>
                <a:latin typeface="Calibri"/>
              </a:rPr>
              <a:t> </a:t>
            </a:r>
            <a:r>
              <a:rPr b="0" lang="lt-LT" sz="2400" spc="-1" strike="noStrike">
                <a:solidFill>
                  <a:srgbClr val="000000"/>
                </a:solidFill>
                <a:latin typeface="Calibri"/>
              </a:rPr>
              <a:t>Tarp dviejų valstybių įvyko karinis konfliktas. Šalys nesutaria, kas dėl to kaltas. Į karinio konflikto vietą atvyko tarptautinės organizacijos pareigūnai detaliau išsiaiškinti situaciją. Parašykite trumpą naujienos pranešimą apie karinį konfliktą (aplinkybes, kurios nenurodytos užduotyje, sugalvokite patys). </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Tekstus aptarkite pasinaudodami šiais klausimai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Į kokius klausimus atsako parengtas pranešima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okie žmonės kalbinami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Kieno citatos panaudotos tekst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400" spc="-1" strike="noStrike">
                <a:solidFill>
                  <a:srgbClr val="000000"/>
                </a:solidFill>
                <a:latin typeface="Calibri"/>
              </a:rPr>
              <a:t>Pasvarstykite, koks veikėjas (tarptautinės organizacijos atstovas, žurnalistas, valstybės vadovas ar kt.) galėtų būti vaizduojamas nuotraukoj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6T07:15:17Z</dcterms:created>
  <dc:creator>Egidijus Jurgelionis</dc:creator>
  <dc:description/>
  <dc:language>en-US</dc:language>
  <cp:lastModifiedBy>Gražina Jurgutavičiūtė</cp:lastModifiedBy>
  <dcterms:modified xsi:type="dcterms:W3CDTF">2015-12-28T11:57:44Z</dcterms:modified>
  <cp:revision>53</cp:revision>
  <dc:subject/>
  <dc:title>Kaip kritiškai skaityti naujieną?</dc:title>
</cp:coreProperties>
</file>