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A7EBD-385E-4E4A-A4B4-510A6E7E305C}"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1143000"/>
            <a:ext cx="4114800" cy="3086280"/>
          </a:xfrm>
          <a:prstGeom prst="rect">
            <a:avLst/>
          </a:prstGeom>
          <a:ln w="0">
            <a:noFill/>
          </a:ln>
        </p:spPr>
      </p:sp>
      <p:sp>
        <p:nvSpPr>
          <p:cNvPr id="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78"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CC688-BC7B-4503-84B5-890A1B5645BA}"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008B4-51D7-41E4-8746-0F541D0A9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483D3-F9D1-4F94-8BC7-8E8215AA1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DADDD-6D57-4EE3-9EF3-16A232EB0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09C53-A0CE-4E46-80C9-4BAB87FA6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FAA2-C09E-4111-A86D-009CF7A0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A4170-8F77-4507-A165-5EC2167B1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28DE3-F6B1-406A-B82B-E98E68242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A936B-1A62-4582-B3EA-E4B90C1B2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740AC-DC34-4FDD-8D79-C9559C1A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451A-430B-4F23-9AE7-80B091A8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78D3-14DB-4320-BD55-DC39C3A1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8BEE-91B4-490F-B79C-D9CE96339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59DC5-706A-4301-B81F-F0F18B9FA2E5}" type="datetime">
              <a:rPr b="0" lang="lt-LT" sz="1200" spc="-1" strike="noStrike">
                <a:solidFill>
                  <a:srgbClr val="898989"/>
                </a:solidFill>
                <a:latin typeface="Calibri"/>
              </a:rPr>
              <a:t>2026 metų liepos mėnesio 28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00407-2E2C-43AF-9BF1-A713EB560447}"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akojimas ir gal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kią įtaką pasakojimas gali daryti visuomene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škumo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vokite, koks istorinis Jūsų šeimos pasakojimas, Jums pats svarbiausias? Ką jis Jums sako / duo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Užrašykite šį pasakojimą.</a:t>
            </a:r>
            <a:endParaRPr b="0" lang="en-US" sz="3200" spc="-1" strike="noStrike">
              <a:solidFill>
                <a:srgbClr val="000000"/>
              </a:solidFill>
              <a:latin typeface="Calibri"/>
            </a:endParaRPr>
          </a:p>
        </p:txBody>
      </p:sp>
      <p:sp>
        <p:nvSpPr>
          <p:cNvPr id="7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BEF59-EBF8-4616-B6E6-C471FA697846}"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oks gali būti pasakojima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urnalistinis pasakoj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Meninis pasakojimas (filmas, romanas ir t. 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s pasakojimas ir t. 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39A91-584B-4FA3-B948-5DC59748DA45}"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o pasakojimo galia</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skleidžia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pėja apie visuomenės negero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aria opiais visuomenei klausimais</a:t>
            </a:r>
            <a:endParaRPr b="0" lang="en-US" sz="3200" spc="-1" strike="noStrike">
              <a:solidFill>
                <a:srgbClr val="000000"/>
              </a:solidFill>
              <a:latin typeface="Calibri"/>
            </a:endParaRPr>
          </a:p>
        </p:txBody>
      </p:sp>
      <p:sp>
        <p:nvSpPr>
          <p:cNvPr id="55"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9DE9C-A3E4-4871-8B18-C904D987BE6A}"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Žurnalistinis pasakojimas vienij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Žiniasklaida ne tik formuoja visuomenės nuomonę ir darbotvarkę, bet ir jungia individus į bendruome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kalb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laik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al idėjas</a:t>
            </a:r>
            <a:endParaRPr b="0" lang="en-US" sz="3200" spc="-1" strike="noStrike">
              <a:solidFill>
                <a:srgbClr val="000000"/>
              </a:solidFill>
              <a:latin typeface="Calibri"/>
            </a:endParaRPr>
          </a:p>
        </p:txBody>
      </p:sp>
      <p:sp>
        <p:nvSpPr>
          <p:cNvPr id="58"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C3A13-0A00-4312-824D-D13D8241753A}"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Meninio pasakojimo galia</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Teikia estetinį pasitenkin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deda visuomenės nariui suprasti, kokiomis vertybėmis vadovaujasi visuomen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tlieka idėjų skleidimo funkciją</a:t>
            </a:r>
            <a:endParaRPr b="0" lang="en-US" sz="3200" spc="-1" strike="noStrike">
              <a:solidFill>
                <a:srgbClr val="000000"/>
              </a:solidFill>
              <a:latin typeface="Calibri"/>
            </a:endParaRPr>
          </a:p>
        </p:txBody>
      </p:sp>
      <p:sp>
        <p:nvSpPr>
          <p:cNvPr id="61"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943D9-9EB4-498B-811D-6997B98866E9}"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Istorinio pasakojimo galia</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 svarbius istorinius fak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Jungia individus, kurie laiko save tautos dal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rojektuoja visuomenės raidos kryptį</a:t>
            </a:r>
            <a:endParaRPr b="0" lang="en-US" sz="3200" spc="-1" strike="noStrike">
              <a:solidFill>
                <a:srgbClr val="000000"/>
              </a:solidFill>
              <a:latin typeface="Calibri"/>
            </a:endParaRPr>
          </a:p>
        </p:txBody>
      </p:sp>
      <p:sp>
        <p:nvSpPr>
          <p:cNvPr id="64"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8DEE5-52BD-4BCD-8902-D372F2DDBE27}"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533160"/>
            <a:ext cx="8229600" cy="5592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Nors pasakojimų funkcijos, struktūra ir kiti elementai skiriasi, visi anksčiau minėti pasakojimai turi galią keisti individus, jų požiūrį bei visuomenės sąrangą.   </a:t>
            </a:r>
            <a:endParaRPr b="0" lang="en-US" sz="3200" spc="-1" strike="noStrike">
              <a:solidFill>
                <a:srgbClr val="000000"/>
              </a:solidFill>
              <a:latin typeface="Calibri"/>
            </a:endParaRPr>
          </a:p>
        </p:txBody>
      </p:sp>
      <p:sp>
        <p:nvSpPr>
          <p:cNvPr id="66"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7AE9A-EAF8-4E67-8E2F-A8FBF605E807}"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68" name=""/>
          <p:cNvSpPr txBox="1"/>
          <p:nvPr/>
        </p:nvSpPr>
        <p:spPr>
          <a:xfrm>
            <a:off x="457200" y="1428840"/>
            <a:ext cx="8229600" cy="452592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Kokios naudos mums gali duoti šie pasakojimai:</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Vinco Mykolaičio-Putino romanas </a:t>
            </a:r>
            <a:r>
              <a:rPr b="0" i="1" lang="lt-LT" sz="3200" spc="-1" strike="noStrike">
                <a:solidFill>
                  <a:srgbClr val="000000"/>
                </a:solidFill>
                <a:latin typeface="Calibri"/>
              </a:rPr>
              <a:t>Altorių šešėly.</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Reportažas apie žiemines padangas laidoje </a:t>
            </a:r>
            <a:r>
              <a:rPr b="0" i="1" lang="lt-LT" sz="3200" spc="-1" strike="noStrike">
                <a:solidFill>
                  <a:srgbClr val="000000"/>
                </a:solidFill>
                <a:latin typeface="Calibri"/>
              </a:rPr>
              <a:t>Keliai. Mašinos. Žmonė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storiniai pasakojimai: </a:t>
            </a:r>
            <a:r>
              <a:rPr b="0" i="1" lang="lt-LT" sz="3200" spc="-1" strike="noStrike">
                <a:solidFill>
                  <a:srgbClr val="000000"/>
                </a:solidFill>
                <a:latin typeface="Calibri"/>
              </a:rPr>
              <a:t>Dialogas apie Lietuvos istorijos stereotipus. Vilnius. / Dialogas apie Lietuvos istorijos stereotipus. Žalgirio mūšis</a:t>
            </a:r>
            <a:r>
              <a:rPr b="0" lang="lt-LT" sz="3200" spc="-1" strike="noStrike">
                <a:solidFill>
                  <a:srgbClr val="000000"/>
                </a:solidFill>
                <a:latin typeface="Calibri"/>
              </a:rPr>
              <a:t>. </a:t>
            </a:r>
            <a:endParaRPr b="0" lang="en-US" sz="3200" spc="-1" strike="noStrike">
              <a:solidFill>
                <a:srgbClr val="000000"/>
              </a:solidFill>
              <a:latin typeface="Calibri"/>
            </a:endParaRPr>
          </a:p>
        </p:txBody>
      </p:sp>
      <p:sp>
        <p:nvSpPr>
          <p:cNvPr id="69"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E3620-5884-41E6-90F5-EA9A9151A0B0}"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r>
              <a:rPr b="0" lang="lt-LT" sz="3200" spc="-1" strike="noStrike">
                <a:solidFill>
                  <a:srgbClr val="000000"/>
                </a:solidFill>
                <a:latin typeface="Calibri"/>
              </a:rPr>
              <a:t>Lietuvių tauta turi daugybę istorinių pasakojimų (pavyzdžiui, Žalgirio mūšis, S. Dariaus ir S. Girėno skrydis per Atlantą ir t. t.). Pasvarstykite, kokie istoriniai pasakojimai ir kodėl jie daro didžiausią įtaką šiuolaikinei Lietuvos visuomenei?</a:t>
            </a:r>
            <a:endParaRPr b="0" lang="en-US" sz="3200" spc="-1" strike="noStrike">
              <a:solidFill>
                <a:srgbClr val="000000"/>
              </a:solidFill>
              <a:latin typeface="Calibri"/>
            </a:endParaRPr>
          </a:p>
        </p:txBody>
      </p:sp>
      <p:sp>
        <p:nvSpPr>
          <p:cNvPr id="72" name="Skaidrės numerio vietos rezervavimo ženklas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D1755-27EF-4911-A373-6FE3E409EF4D}"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6T05:56:24Z</dcterms:created>
  <dc:creator>Egidijus Jurgelionis</dc:creator>
  <dc:description/>
  <dc:language>en-US</dc:language>
  <cp:lastModifiedBy>R</cp:lastModifiedBy>
  <dcterms:modified xsi:type="dcterms:W3CDTF">2016-01-06T19:27:36Z</dcterms:modified>
  <cp:revision>17</cp:revision>
  <dc:subject/>
  <dc:title>Pasakojimas ir galia</dc:title>
</cp:coreProperties>
</file>