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0F92A-267C-4843-9FF8-A56DBDEBDCE6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kaidrės numerio vietos rezervavimo ženklas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AD611-8335-4959-B7EF-1453FEB684E2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ADBC6-84B5-43FD-82BB-59FB1C3907C5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091-014A-448D-A72B-6FD2B1C4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20B6-02C1-4939-B342-3621E33C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5EC34-B58F-4422-89A8-6AB689E5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79955-8280-4B3E-8BE7-2FC13A4C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15970-E343-47A7-B769-8BB01345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5D53A-A2C8-4DEF-ABD3-E13D21E5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EEBC9-EAF3-43C7-B8D3-A3ECBD2E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D51B4-3CDC-4BA5-A478-634A02D0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036BD-F9B5-466D-BA70-1B9D096B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2B5CF-9E42-489D-B6A1-09B097BF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AB187-FF19-4152-B889-AEF9FC0A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BE4-4913-4BDE-B98D-76D53D5C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5DA-ACC4-4E22-BADF-C8EDD0C7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0032-2012-4B23-BFE1-5833EE4C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B08A-2472-40A0-B8A3-F0AAECD4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ECC5-0870-4AE9-ACD4-DB622150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55A9-310B-42FA-89C5-2FE3FC66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256F-128C-43B9-B76F-6676BF4B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E52C-A1C0-4CCB-919A-51AC1549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DA91-E185-463B-A728-9097D11D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52B8-9AA0-473E-ACB3-29A89620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40A4-4B54-475E-A6E8-D00DA5BE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D552-811D-412C-87D1-11995537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6F91-672A-48AD-8B24-CE7AB3E8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A4D3-3129-4BCF-8696-0491E2E7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6922-3F25-4087-9582-E4498430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7EC8-4EAA-4719-ADDB-EF99A0E1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1E289-E541-4C55-8218-0897451C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CA7C7-FFA2-4DB6-8602-51379077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A54D3-8178-45FE-A10B-1EE454AA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3E07-351F-4CAD-917D-758E1F8A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C50-B4D9-4430-94F8-91402577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C3092-A9A3-485D-985E-8FE19D9A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918BE-F3A1-4CD7-B4CD-D71CFBB1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F1077-D51F-4025-9870-B984CB50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A2B01-FEE3-4A18-B793-75017D9A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5A2CC-787E-48B2-942D-0732CBEF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02E80-F7FF-491E-97B4-C01DD698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2638E-43BC-4FF7-B4FE-22DD676C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3470F-0882-4AC8-A99C-5A5BCF88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BF4AE-7604-4F81-9803-8C71E212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4617B-C1ED-46E4-A6EE-32FD1270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121B-5C20-40CF-B688-1D70B042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A7DBA-90A1-40E9-8626-71D0389A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A9116-82E3-49AF-AA38-57AA3B47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D57B1-8AD2-41C1-95AC-D8E48BB6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4F1BC-7374-41B1-906E-89D85BB4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AD1E6-374B-46A7-BFF8-94EE13F1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BEB3D-03D3-41AF-A81E-A27770C3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A171E-8B71-499E-BE05-D37CE83C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36E08-ED5F-4FFF-9292-09693202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5EC94-4767-437B-9D94-85A2660E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78F96-E442-43AD-BD2A-B4AC6EDF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31C-D96A-4FF4-949B-BBB1A9F6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8318E-CDF0-469D-B56A-A8B100A1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8965A-17DF-4926-920F-838CE9DB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E0BE1-4175-469A-9EB1-DD995FA2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7D798-7682-4477-8054-DC953265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33019-F5E8-4ED4-8D87-463B04F1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BC0C5-081A-47C1-AFC2-917A1C38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6BFFD-D9D5-458D-9BDD-91A4845C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B1C75-7CBA-478C-AFBE-80162FD8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4E240-EAD2-4052-B52A-61FE16DD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B95AD-5828-4AA1-B56D-A08D40F1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195-D914-4B79-A095-0BD3476F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A158C-18E5-447B-8B92-2A6E782C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EC286-E975-4D66-A74C-95F60F76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33D3F-EB8A-4A30-B998-A5ED7FEA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EBBBC-16C0-4463-B013-532265D1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31308-7A34-4DC8-B09E-822F018B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C7EA2-13A4-4865-81BA-79DCBDA3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50140-DC47-4627-968A-2B0A951B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6DC82-945B-429F-99EF-01D41365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F45C0-7482-4AD1-BAF6-6DDCDF7E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679A8-ACF0-4661-B3F3-3C20332A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4C9-3775-44E2-8A96-7B5366AA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BCF35-5388-459D-9F7C-B5C91A74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77F28-ADCC-4E9B-866C-35DE2C5C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5681C-61AC-4B9B-B408-4FACFBD7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D83EF-3B3D-490E-B516-C6E6E67D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7BF23-DC1A-4D77-9149-9F668D14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0EDDC-AADE-4388-AE49-3EEDBF11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89B55-DA86-4F63-88AE-FF2BCE34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68E38-076F-4FB8-BDE6-D9CF6BD0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D800D-828C-406E-B54B-6E2830AA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23A00-5CEA-40B3-A392-9DA0FA83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1959-BA32-4532-8170-64DC5C92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717BE-FF10-4671-AAED-2A9BE0F8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19701-3CE2-4EB2-8B50-92EC528A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0509F-8588-4CDD-84A9-A1C0D714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0DB79-8140-4F34-A5C6-3C009D13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35DD7-3B8C-4A46-AC4D-FD5B9B72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CC93B-5598-499B-9300-E4F8EFFE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6B4D5-59C0-4B67-BF7A-C37C344C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B2759-8F0A-46E3-BEFA-91F16600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57F96-208A-47D8-91A6-155211BF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C4C5E-4CA4-4F72-BB46-710E4A7E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C6A-AF29-4509-940A-B0C79210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8F24E-D100-4341-8DF3-3B1FA4C0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E60F8-C018-48DF-BB47-00BA29E9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A636E-D0F9-472E-9ED5-1E069B5C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F3899-1155-43CD-B762-5A177236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66DED-7BF5-4994-BEA9-55969E77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F5C43-5F24-44CB-8F67-82709BBD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81EBA-EC65-4478-B287-6D14D1AF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F5DB2-3B6B-4EE5-8B29-B8F2899C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99121-BA52-44E0-B7CE-C5AE40F5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CA46E-DCF8-47A0-A65D-1F052F89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73BB9-3C18-4776-A380-57156E09FD80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7F57E-923E-4B57-A314-AA13E742CAC1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6D04C-B775-4FB2-87CD-1C4E81680B72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ED05F-32C3-480B-84CB-5182A2D71DE0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34F1D-6599-426F-ABD0-94227668CFFD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B3E16-1039-4957-A340-EAFF5CAD69EF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B380A-EDEE-4A32-8751-E6C3157A5E2F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28 diena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4DCA6-90B5-46F3-A0B3-95B63FC7435D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E2E28-C31C-42FB-9125-A95F30CE8E06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4837A-9908-4587-AD14-4EA67BC12CD8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4BB84-3277-4908-912C-F30E8933B2A0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40992-4E81-4841-9AF8-1937B452AE9C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0B949-94BB-4F54-A74B-10C7301C6558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50E57-E96F-4BF2-9BED-45EF9F2B8924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523CB-A675-4068-849D-B7BFD790D169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D5A44-DEC8-45B3-B1E2-D6FD65D0EFE0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AC2FC-BEEF-480B-82A0-1FF5FC8D09E5}" type="datetime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FB213-7B13-4557-B79B-09B47AC75396}" type="slidenum">
              <a:rPr b="0" lang="lt-L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384120" y="1328760"/>
            <a:ext cx="8454960" cy="1335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7f7f7f"/>
                </a:solidFill>
                <a:latin typeface="Franklin Gothic Book"/>
                <a:ea typeface="ＭＳ Ｐゴシック"/>
              </a:rPr>
              <a:t>Ar žurnalistas, pateikdamas tikrą informaciją, perteikia tikrovę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Skaitytojas pats renkasi, kokias naujienas skaityti, ir pagal tai gali susidaryti aiškesnį tikrovės įspūdį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Pavyzdžiui, skaitydamas kuo daugiau naujienų, pasisakymų ir vertinimų apie vieną įvykį ar tendenciją skaitytojas susidarys tikslesnį vaizdą nei tuo domėdamasis fragmentiškai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D65E0-657C-47DD-B1AA-FA0C6C30F1E7}" type="slidenum">
              <a:rPr b="0" lang="lt-LT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1680" y="19479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Žiniasklaida yra darinys, padedantis susidaryti įspūdį apie tikrovę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Sakoma, kad kuo profesionalesnė žiniasklaidos priemonė, tuo tikslesnį tikrovės konstruktą ji pateikia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DA1F41-5D6E-4C98-A74B-735BF8ABBAC9}" type="slidenum">
              <a:rPr b="0" lang="lt-LT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168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Pasiskirstykite į </a:t>
            </a:r>
            <a:r>
              <a:rPr b="0" i="1" lang="lt-LT" sz="3200" spc="-1" strike="noStrike">
                <a:solidFill>
                  <a:srgbClr val="4e3b30"/>
                </a:solidFill>
                <a:latin typeface="Franklin Gothic Book"/>
              </a:rPr>
              <a:t>keturias</a:t>
            </a: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 „namų“ grupes išsiskaičiavę </a:t>
            </a:r>
            <a:r>
              <a:rPr b="0" i="1" lang="lt-LT" sz="3200" spc="-1" strike="noStrike">
                <a:solidFill>
                  <a:srgbClr val="4e3b30"/>
                </a:solidFill>
                <a:latin typeface="Franklin Gothic Book"/>
              </a:rPr>
              <a:t>pirmais-ketvirtais</a:t>
            </a: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Kiekviena „namų grupė“ gauna po dalį medžiagos apie skirtingus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tikrovės perteikimo</a:t>
            </a: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 trukdžius</a:t>
            </a:r>
            <a:r>
              <a:rPr b="0" i="1" lang="lt-LT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(žr. </a:t>
            </a:r>
            <a:r>
              <a:rPr b="0" i="1" lang="lt-LT" sz="3200" spc="-1" strike="noStrike">
                <a:solidFill>
                  <a:srgbClr val="4e3b30"/>
                </a:solidFill>
                <a:latin typeface="Franklin Gothic Book"/>
              </a:rPr>
              <a:t>1 veiklos lapą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Padirbėję „namų“ grupėje persigrupuokite į „ekspertų“ grup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</a:rPr>
              <a:t>Išsamiai išnagrinėkite visus veiklos lape pateiktus veiksnius aiškindamiesi, kas ir kaip  trukdo žurnalistui objektyviai perteikti tikrovę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Skaidrės numerio vietos rezervavimo ženklas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CAA08-3602-4278-9D13-2EE09E99F871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560" y="1554120"/>
            <a:ext cx="883908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Pasiskirstykite poromis: A-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skaitytojas ir B-dienraščio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žurnalistas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Siūloma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pasirinkti naujieną, pateiktą naujienlaiškyje „Aktualijos! O ką manai Tu?“ (http://duomenys.ugdome.lt/?/veikla/aktualijos/med=15/240)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A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skaitytojas 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p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asidali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j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a mintimis, kokių faktų ar aplinkybių galėjo nepateikti žurnalistas, manydamas, kad jos nesvarbios įvykiui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 O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B žurnalistas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 atsako A skaitytojui paaiškindamas, su kokiais trukdžiais susidūrė rašydamas apie tikrą įvykį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Po to apsikeiskite vaidmenimis: A mokinys tampa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žurnalistu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, o B mokinys – naujienos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 skaitytoju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Skaidrės numerio vietos rezervavimo ženklas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69ADB-5052-4463-BA6C-BF119FF5AF7A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9205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34136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4e3b30"/>
                </a:solidFill>
                <a:latin typeface="Franklin Gothic Book"/>
              </a:rPr>
              <a:t>Įsivaizduokite, kad už lango įvyko </a:t>
            </a:r>
            <a:r>
              <a:rPr b="0" i="1" lang="lt-LT" sz="2700" spc="-1" strike="noStrike">
                <a:solidFill>
                  <a:srgbClr val="4e3b30"/>
                </a:solidFill>
                <a:latin typeface="Franklin Gothic Book"/>
              </a:rPr>
              <a:t>eismo įvykis</a:t>
            </a:r>
            <a:r>
              <a:rPr b="0" i="1" lang="cs-CZ" sz="2700" spc="-1" strike="noStrike">
                <a:solidFill>
                  <a:srgbClr val="4e3b30"/>
                </a:solidFill>
                <a:latin typeface="Franklin Gothic Book"/>
              </a:rPr>
              <a:t>. Tačiau Jūs tuo metu klausėtės mokytojo, žiūrėjote į lentą ir nematėte, kaip įvyko avarija. Kokias įvykio aplinkybes norėtumėte sužinoti? Ko klausinėtumėte liudininkų, kad galėtumėte aprašyti įvykį?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Tai gali būti namų užduotis – parašyti naujieną apie tikrą, neseniai įvykusį 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eismo įvykį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artimoje aplinkoje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Aptarkite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, ko išmoko</a:t>
            </a:r>
            <a:r>
              <a:rPr b="0" lang="lt-LT" sz="2700" spc="-1" strike="noStrike">
                <a:solidFill>
                  <a:srgbClr val="4e3b30"/>
                </a:solidFill>
                <a:latin typeface="Franklin Gothic Book"/>
              </a:rPr>
              <a:t>te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 per dvi pamokas </a:t>
            </a:r>
            <a:r>
              <a:rPr b="0" i="1" lang="cs-CZ" sz="2700" spc="-1" strike="noStrike">
                <a:solidFill>
                  <a:srgbClr val="4e3b30"/>
                </a:solidFill>
                <a:latin typeface="Franklin Gothic Book"/>
              </a:rPr>
              <a:t>Žiniasklaida ir tikrovė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bei kaip sekėsi atlikti įdėmaus </a:t>
            </a:r>
            <a:r>
              <a:rPr b="0" i="1" lang="cs-CZ" sz="2700" spc="-1" strike="noStrike">
                <a:solidFill>
                  <a:srgbClr val="4e3b30"/>
                </a:solidFill>
                <a:latin typeface="Franklin Gothic Book"/>
              </a:rPr>
              <a:t>skaitytojo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 ir atsakingo </a:t>
            </a:r>
            <a:r>
              <a:rPr b="0" i="1" lang="cs-CZ" sz="2700" spc="-1" strike="noStrike">
                <a:solidFill>
                  <a:srgbClr val="4e3b30"/>
                </a:solidFill>
                <a:latin typeface="Franklin Gothic Book"/>
              </a:rPr>
              <a:t>žurnalisto </a:t>
            </a:r>
            <a:r>
              <a:rPr b="0" lang="cs-CZ" sz="2700" spc="-1" strike="noStrike">
                <a:solidFill>
                  <a:srgbClr val="4e3b30"/>
                </a:solidFill>
                <a:latin typeface="Franklin Gothic Book"/>
              </a:rPr>
              <a:t>vaidmenis.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8CAEB-54F4-42EE-AF81-6060E4FDEF3B}" type="slidenum">
              <a:rPr b="0" lang="lt-LT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9" name=""/>
          <p:cNvGraphicFramePr/>
          <p:nvPr/>
        </p:nvGraphicFramePr>
        <p:xfrm>
          <a:off x="301680" y="1554120"/>
          <a:ext cx="8690040" cy="3078360"/>
        </p:xfrm>
        <a:graphic>
          <a:graphicData uri="http://schemas.openxmlformats.org/drawingml/2006/table">
            <a:tbl>
              <a:tblPr/>
              <a:tblGrid>
                <a:gridCol w="4487760"/>
                <a:gridCol w="4202280"/>
              </a:tblGrid>
              <a:tr h="100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3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Kas būdinga  žiniasklaidai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30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Kas būdinga tikrovei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252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avyzdžiai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 </a:t>
                      </a:r>
                      <a:r>
                        <a:rPr b="0" i="1" lang="lt-LT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avyzdžiai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10" name="Skaidrės numerio vietos rezervavimo ženklas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FC6CF-EDC4-479B-8461-ECEE9E7B4460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6"/>
          <p:cNvSpPr/>
          <p:nvPr/>
        </p:nvSpPr>
        <p:spPr>
          <a:xfrm>
            <a:off x="301680" y="4797360"/>
            <a:ext cx="923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Franklin Gothic Book"/>
              </a:rPr>
              <a:t>Kaip žiniasklaida ir tikrovė susijusio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lt-LT" sz="3200" spc="-1" strike="noStrike">
                <a:solidFill>
                  <a:srgbClr val="000000"/>
                </a:solidFill>
                <a:latin typeface="Franklin Gothic Book"/>
              </a:rPr>
              <a:t>Ar žurnalistas, pateikdamas informaciją kaip naujieną, perteikia tikrov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030200" y="1700280"/>
            <a:ext cx="496116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Naujiena yra kaip paveikslas. Paveikslas nėra tikrovė, jis tėra tikrovės konstruktas, kurį nutapė dailininkas. Naujiena taip pat nėra tikrovė – tai žurnalisto pateikiamas tikrovės konstrukta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EED7F-28C6-4C19-A899-DFA5C120EAF7}" type="slidenum">
              <a:rPr b="0" lang="lt-LT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6" descr=""/>
          <p:cNvPicPr/>
          <p:nvPr/>
        </p:nvPicPr>
        <p:blipFill>
          <a:blip r:embed="rId2"/>
          <a:stretch/>
        </p:blipFill>
        <p:spPr>
          <a:xfrm>
            <a:off x="144360" y="170028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416" name="TextBox 5"/>
          <p:cNvSpPr/>
          <p:nvPr/>
        </p:nvSpPr>
        <p:spPr>
          <a:xfrm>
            <a:off x="304920" y="5877000"/>
            <a:ext cx="75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nstrukta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ntyse sukurtas dalyk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"/>
          <p:cNvSpPr/>
          <p:nvPr/>
        </p:nvSpPr>
        <p:spPr>
          <a:xfrm>
            <a:off x="547560" y="4978440"/>
            <a:ext cx="348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V. Van Gogas, „Batai“, 1886 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Šaltinis: Wikimedia Comm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-79200" y="262080"/>
            <a:ext cx="969300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Atrenka tam tikrai auditorijai svarbiausius įvykiu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Renka apie juos informaciją: kalba su žmonėmis, skaito dokumentus ir pa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Atrenka, jo nuomone, svarbiausius faktus, pasisakymus, vertinimu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Pagal žiniasklaidos priemonės pobūdį parenka nuotraukų, vaizdo įraš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Skaidrės numerio vietos rezervavimo ženklas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1FECB-6246-48C2-BD2F-3A247653FB06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686800" cy="15429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2060640"/>
            <a:ext cx="868680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Asmeninės nuostato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Įstatymai ir etikos kodeksai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Žiniasklaidos priemonės vidaus politika, priklausymas verslo struktūroms.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Skaidrės numerio vietos rezervavimo ženklas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A594D-F183-4909-94F9-98E979EF41BD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686800" cy="15429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2349000"/>
            <a:ext cx="868680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Geografiniai trukdžiai – atstumai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Laiko apribojimai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Skaidrės numerio vietos rezervavimo ženklas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75E90C-FB72-4425-A337-905589924945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686800" cy="1542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77300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Fotoaparatas arba vaizdo filmavimo kamera tik įrėmina tikrovę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Pokalbio garso įrašas neperteikia visko, kas vyksta interviu metu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Vaizdo ir garso montažas gali kardinaliai pakeisti tikrovę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Tiesioginis eteris taip pat negali perteikti tikrovė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Skaidrės numerio vietos rezervavimo ženklas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CC01C-92DC-422F-AD78-5D93D0BDE29C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Naujieną rengia žurnalistas, tačiau prieš publikuojant ją peržiūri ir redaktoriu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Redaktorius nėra buvęs įvykio vietoj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Redaktorius gali išbraukti faktus, pasisakymus ir vertinimus, kurie jam atrodo nesvarbū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Redaktorius gali ištrinti teksto pabaig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Skaidrės numerio vietos rezervavimo ženklas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644E8-EF89-40CD-9D49-D52D2A98A413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30492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341000"/>
            <a:ext cx="86868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Būdamas pačioje įvykio vietoje žmogus nemato visos tikrovės: jis nežino visų reikšmingų faktų ir aplinkybi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Žmogus koncentruoja žvilgsnį į vieną situaciją, o tuo metu už jo akiračio gali formuotis kita situacija ir dar svarbesnės jos aplinkybė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4e3b30"/>
                </a:solidFill>
                <a:latin typeface="Franklin Gothic Book"/>
                <a:ea typeface="ＭＳ Ｐゴシック"/>
              </a:rPr>
              <a:t>Kartais televizija geriau išryškina aplinkybes, nei mato įvykio vietoje esantis stebėtoja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Skaidrės numerio vietos rezervavimo ženklas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E3DD8-924C-418E-BB16-2B96F5B524F5}" type="slidenum">
              <a:rPr b="0" lang="lt-LT" sz="11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7T10:17:08Z</dcterms:created>
  <dc:creator>Egidijus Jurgelionis</dc:creator>
  <dc:description/>
  <dc:language>en-US</dc:language>
  <cp:lastModifiedBy>R</cp:lastModifiedBy>
  <dcterms:modified xsi:type="dcterms:W3CDTF">2016-01-06T19:24:39Z</dcterms:modified>
  <cp:revision>66</cp:revision>
  <dc:subject/>
  <dc:title>Žiniasklaida ir tikrovė</dc:title>
</cp:coreProperties>
</file>