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F3E80-C33E-471A-ACE6-2DC465B4D008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09B9F-2C75-48BB-97E8-221C1F766379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267-B165-4E3E-918B-264A5B48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E7B-B85D-4A3E-8DFE-3C046EE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15A-51A3-4CE6-B550-BBF4917B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FAE-12F6-474C-9B45-6A8A81B4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811-D627-4E20-8415-B9A1F3B7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383-6F33-4859-9B6E-AEA505A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455-51C0-48AD-A400-781AFF1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EF9-F22E-4D1F-B984-B8B44766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628-FA12-44C8-9840-0BADD70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952-D25A-41FC-9522-E0BF87D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63C-C5B4-421F-A12B-E421DBB8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C70-AD98-4F9B-BACE-1284DE2D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67FFF-0D0E-486C-A3C8-B54502189454}" type="datetime">
              <a:rPr b="0" lang="lt-LT" sz="1200" spc="-1" strike="noStrike">
                <a:solidFill>
                  <a:srgbClr val="898989"/>
                </a:solidFill>
                <a:latin typeface="Calibri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334E3-754C-4792-A7BB-681BF847A54C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Žiniasklaidos įtaka visuomenės formavimu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898989"/>
                </a:solidFill>
                <a:latin typeface="Calibri"/>
              </a:rPr>
              <a:t>Kas lemia mūsų požiūrį į visuomenės problem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Iš kur gauname informacij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Laikrašč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aujienų port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ensinio amžiaus kaimynė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ėv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Facebook“ ir t. 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4BB3A-6718-4683-9282-663FAAECA48A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žurnalistai kelia pasitikėjim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prastai žmogus būna vienos ar kelių sričių ekspertas, bet ne vis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irgi nėra vienos  srities ekspertas, bet jis po truputį išmano daugybę sriči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i kasdien kalbasi su įvairių sričių ekspertais ir pateikia jų nuomon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ai kurie žurnalistai taip pat yra puikūs srities, apie kurią daug rašo, eksperta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D98CF-B839-4CD6-8E55-387DB6810DE1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yra mūsų akys į pasaulį, nes žiniasklaidos kuriamą pasaulį suprantame taip, kaip jis jį mums pateik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Juokaujama, kad tai, ką žurnalistas pateikia kaip problemą, visuomenėje ir tampa probl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64A23-EF86-420D-AE57-F65D780816FD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tai ger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Turime daug akių ir aus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utaupome galybę laik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Ne kiekvienas turime tokių kompetencijų, kad sužinotume svarbią informacij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iniasklaida iškelia problemas, kurių šiaip nepastebėtumė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20476-0293-4717-917C-8DAA7841756A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Kodėl tai bloga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Skaitytoju galima manipuliuo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o klaidų aukomis tampa skaityto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Kartais perskaitę naujieną turime klausimų, kurių negalime pasitiksli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urnalistas nesąmoningai savo publikacija paskatina problemą suvokti viena ar kita link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FB51B-5309-4431-9993-59D24AC2B54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ublikacija yra ne tik situacijos atspindys ar problemos analizė, bet ir žurnalisto vertybių, požiūrių bei pasirinkimų rezulta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3AD21-CD59-458A-AF5C-CF57DBCA7542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Calibri"/>
              </a:rPr>
              <a:t>Žiniasklaida ir bendruomenė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Žiniasklaida ne tik formuoja visuomenės nuomonę ir darbotvarkę, bet ir jungia individus į bendruome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kalb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laik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alibri"/>
              </a:rPr>
              <a:t>Pagal idėj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kaidrės numerio vietos rezervavimo ženklas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7C2B6-8285-487F-95B9-FE2DBB74901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7:56:35Z</dcterms:created>
  <dc:creator>Egidijus Jurgelionis</dc:creator>
  <dc:description/>
  <dc:language>en-US</dc:language>
  <cp:lastModifiedBy>Gražina Jurgutavičiūtė</cp:lastModifiedBy>
  <dcterms:modified xsi:type="dcterms:W3CDTF">2015-12-28T14:32:03Z</dcterms:modified>
  <cp:revision>30</cp:revision>
  <dc:subject/>
  <dc:title>Žiniasklaidos įtaka visuomenės formavimuisi </dc:title>
</cp:coreProperties>
</file>