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733-6310-42ED-AC65-E0D49394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743-BDCE-433A-82E6-A3C90214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A6E-DDD5-420F-80B2-E2DB6DBF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930-EF62-460B-A424-3F529403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84D5-332C-43CF-95CA-3D270765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44E5-B882-40C5-9760-8EC7403D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FB63-DD1F-4985-8D03-F552E3F3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029B-874B-4D45-A335-7B42B6E9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8DEB-1567-465B-932C-501E401B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8D79-17C6-4E39-A26D-B89D4253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2ECC-3A49-4E28-8C4F-63F60C4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162-0EDD-428B-B036-41271D2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BED5-F15A-4470-B4E0-331636A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BF8B-07A6-4413-88E1-06353F77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EDDC-13FA-4E93-935A-566F67C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13C8-3438-4C7A-95A3-389FE2CF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8287-CA9C-4DFF-BA84-89E402EB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0EAF-3C41-4CC0-8CEA-82BDB4D3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F56E-C2C6-4529-ADAC-AF894B28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B2AE-48E2-4CFB-AF31-996F1EBA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C8A0-0B8A-4D8A-9D45-6FE99A3B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F6FA9-9727-47DD-9D94-4763C62A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0D5-5681-4CFD-AD86-31775BAD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F3073-0455-4F1B-A6DB-80EE8BA2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582C6-8BBD-42D5-AE30-FE6C08EA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E5A04-E19D-4DB1-9674-91C844F8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F990-574E-49C9-95B5-7B4AF82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E315-785E-45E4-9FCE-EF55B480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5A56A-7687-475D-8145-36CF39BD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D6772-4FDA-49AC-8B77-E6FEE737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38C59-12B3-4431-BA89-C7AE9A86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52D6-F468-4CAF-BA2E-95F95615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CB735-D089-4864-9DE0-ACF821C1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579-C43B-4B0A-A9B1-7CF55A9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5DFA-B446-438F-A638-E3970EA5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27D0-89E6-4DAE-8D8D-2A8B6552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A5159-DF1F-4E80-B604-93EE5311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AA975-FF0E-45D4-B74E-B21DEFAA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0ED2-B2CD-4AEF-B81F-C60FEA7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85C47-36FC-4932-AD0D-4B57C554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00C6-4FEF-41E2-8ADA-0C951CD7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78A7-45A9-4054-9E20-E5A1E206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8EFC-20E9-4D6E-ADF6-D6426020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294F9-2575-4353-9F3E-C49754FE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580-6A89-494D-8CB3-7B233589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D00BF-1957-4F85-B0B4-0DE0E926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C07E0-3E70-49C8-A5E2-C1643A79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F9823-A81F-41F8-8905-8954B4E4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52E62-C636-4407-9A4F-729B153B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1AF72-C3B1-499B-B537-3C5D17E2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51FA-3D53-4F7B-A26F-28CC3178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66B52-DCED-4B5C-8F1E-93A53B42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8291-2469-42BC-96F7-38AEEC8E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A8921-42A5-4B4B-8EEF-C6F0822D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FB140-A805-43F2-BA7A-F6967EC9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36E-2DE0-4F46-BC3A-6657033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209E7-6146-419E-9636-E66C26A5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31785-E53C-4DB7-A919-C040AD6E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6992-C8C5-4D4F-9C65-DF32F3C8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E191-3BD7-4156-9386-D2C7DCDF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B180E-3B48-4315-A2B7-03DF09E4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2D7D7-B98D-4991-AC20-D2E30570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ED046-6CE3-4921-9A10-E7F7C5C8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437D2-4241-4961-8DD6-D8A2ACD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7992-B355-4BAF-AB8B-1F773F9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E141D-0885-421C-9C17-4F551945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71F-BD7D-4BC6-845D-8ADE9E7F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DD70-56C9-412C-BAF1-2A31EE6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012BC-8610-4BAB-9A13-E5D40A59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62F58-172D-460C-8BB6-8128EEA0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80845-F131-46FD-B550-9B8D2CBA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9F71C-B1C2-4FCF-AEAC-629B6772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00434-C67F-4BE5-8F4C-92CCF76D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68A7A-C0BB-4A9E-A13B-025F3784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4EC68-8435-4067-BCA2-2819939D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F6C89-93F0-44BC-9D7B-64EA11A2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13ED-ED49-45C5-BE35-0A3EA6D5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DE5-5E84-4EF3-8055-861C838D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23AF3-2419-40C8-ACF1-61AD4E1D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DFADD-0E72-48F4-BBE8-0643EA6B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CA73A-148C-41C1-ABD9-75A5C997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0F85B-89F2-4C6A-B046-C358EF4A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CC126-5D9E-42A4-A338-877CDDF0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816-0D41-427A-9683-15001F30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E633A2-A4A8-4C9F-ABAA-2FC7113326EA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6D5C9-0941-480D-98F9-CD1F70445B38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5697C-F2D7-4D07-A192-E7F9FCCF1705}" type="datetime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C13AF-8AAA-47F1-958A-7A3CEB81F2CD}" type="slidenum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9917A-1458-4411-845C-D099E0313EC8}" type="datetime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232C22-476B-4709-9704-69953BBF49D7}" type="slidenum">
              <a:rPr b="0" lang="lt-L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A0BB7-2A81-4498-B061-506E92BD2A90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398A1-88A8-4D27-AF87-C1BF56839F37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1F18F-459D-4EF1-89D1-48CCCC7BFD24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7164F-1147-444A-A83C-35D71DB926BF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EAF02-A061-4C96-A9D1-21168626EAFE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BBC5B-B665-4514-8760-F13FAF6B3DDD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6448A-C975-4A75-8154-C3FD84AECE82}" type="datetime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644E0-1951-410B-962E-C8A932A3B5CF}" type="slidenum">
              <a:rPr b="0" lang="lt-LT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2279520"/>
            <a:ext cx="80769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ino montažo technikos virtuoz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Tarptautinio pripažinimo sulaukė sukurtas filma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Šarvuotis </a:t>
            </a: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„Potiomkinas“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1925)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Tai -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1905–1907 metų darbininkų, valstiečių ir karių revoliucijo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ranizacija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ieš caro valdžią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asinė Odesos laiptų scena iki šiol laikoma viena įspūdingiausių kino istorijoje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6868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774800"/>
            <a:ext cx="84358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e veikėjai vaidina šioje scenoj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vaizduojama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aukos – agresoriau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nfliktas? Kurią pusę palaikytumėte Jū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filmo ištraukoje panaudojama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metonimija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risiminkite vėlesnį istorinį laikotarpį –  bolševikų revoliuciją, Sovietų Sąjungos ideologiją: kodėl šį filmą teigiamai priėmė Sovietų Sąjungos valdži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ena iš Trečiojo Reicho veikėjų ir artimos Adolfo Hitlerio aplinkos žmoni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Garsiausiu jos kūriniu laikomas filma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Valios triumfa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(1935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Adolfas Hitleris buvo ne tik filmo rėmėjas, bet ir neoficialus vykdomasis prodiuseri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Filmas iki šių dienų laikomas vienu įspūdingiausių propagandinių film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6840" y="1774800"/>
            <a:ext cx="84358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s žiūrovui atskleidžiama šio filmo vaizdiniai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as Reicho kariuomenės ypatybes norima perteikti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o tikslo siekiama šiuo filmu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ai auditorijai skiriamas šis kina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507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ažiūrėkite V. Žalakevičiaus filmo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Niekas nenorėjo mirti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(1965) ištrauką: 34:00-43:58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agalvokite, kodėl šio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filmo cenzoriai Lietuvoje nepraleido kaip „ideologiškai neteisingo“, tačiau cenzoriai Maskvoje ne tik leido jį rodyti, bet ir skyrė autoriui apdovanojimų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r šis filmas, jūsų nuomone, palaiko sovietinę ideologiją? Kodėl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3" descr=""/>
          <p:cNvPicPr/>
          <p:nvPr/>
        </p:nvPicPr>
        <p:blipFill>
          <a:blip r:embed="rId1"/>
          <a:stretch/>
        </p:blipFill>
        <p:spPr>
          <a:xfrm>
            <a:off x="542880" y="695160"/>
            <a:ext cx="8454960" cy="38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sa klasė aptarkit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r menui reikalinga ideologinė funkcija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Kodėl kinas suvokiamas kaip geriausias kanalas ideologijai skleisti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ekvienai grupei p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kiriama (arba duodama ištraukti ant lapelių parašytą) po vieną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žodį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dėją, pvz.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jėga, tauta, pareiga, vienybė, laimė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ir pan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Grupės sugalvoja bent po tris vaizdinius, kuriais atskleistų savo idėją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ir juos pristato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t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ų grupių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mokiniai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uri atspėti tą įsivaizduojamą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žodį</a:t>
            </a:r>
            <a:r>
              <a:rPr b="0" lang="lt-LT" sz="3200" spc="-1" strike="noStrike" u="sng">
                <a:solidFill>
                  <a:srgbClr val="000000"/>
                </a:solidFill>
                <a:uFillTx/>
                <a:latin typeface="Corbel"/>
              </a:rPr>
              <a:t> – idėją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4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audodamiesi fotoaparatu ar mobiliuoju telefonu nufilmuo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kite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trumpą v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aizdo filmuką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, kuris atspindėtų j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ūsų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grupei p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skirtą (ištraukt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ame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lapelyje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parašytą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)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žodį</a:t>
            </a:r>
            <a:r>
              <a:rPr b="0" i="1" lang="lt-LT" sz="3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–</a:t>
            </a:r>
            <a:r>
              <a:rPr b="0" i="1" lang="lt-LT" sz="30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i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idėją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Grupės nariai susitaria, koks vaizdas būtų įdomiausias, kuris atskleistų tą idėją ir pademosntruoja su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kurtą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filmuką kitiems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Visi kiti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taip pat bando atspėti tą įsivaizduojamą žodį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– simbolį.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Apibendrinama, kokia vaizdinių simbolinė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–</a:t>
            </a:r>
            <a:r>
              <a:rPr b="0" lang="lt-LT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idėjinė prasmė ir emocinis poveikis auditorijai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457200" y="1774800"/>
          <a:ext cx="8229600" cy="4359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no meno pavyzdž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3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deologijos pavyzdžia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736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švada: </a:t>
                      </a:r>
                      <a:r>
                        <a:rPr b="0" i="1" lang="lt-LT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nas ir ideologija susiję / iš dalies susiję / nesusiję, nes...</a:t>
                      </a:r>
                      <a:r>
                        <a:rPr b="0" lang="lt-LT" sz="3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6" name="Rectangle 1"/>
          <p:cNvSpPr/>
          <p:nvPr/>
        </p:nvSpPr>
        <p:spPr>
          <a:xfrm>
            <a:off x="2274120" y="9036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švada: </a:t>
            </a:r>
            <a:r>
              <a:rPr b="0" i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inas ir ideologija susiję/ iš dalies susiję/ nesusiję, nes..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2274120" y="90360"/>
            <a:ext cx="45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6303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švada: </a:t>
            </a:r>
            <a:r>
              <a:rPr b="0" i="1" lang="lt-L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inas ir ideologija susiję/ iš dalies susiję/ nesusiję, nes..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rbel"/>
              </a:rPr>
              <a:t>Tai klasių, socialinių grupių pažiūrų, idėjų sistem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orbel"/>
              </a:rPr>
              <a:t>Atspindys visuomenės santykių, jų socialinių principų pagrindimo teorija, skleidžiama įvairiomis visuomeninės sąmonės formomis (filosofija, politika, teise, menu, religija, žiniasklaida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munikacija istorijoje ilgą laiką buvo suvokiama kaip potencijos sukurti ar sugriauti politinę santvarką turinti gali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John Durham Peters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„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agrindinis manipuliavimo visuomenės vertybių sistema tikslas yra paveikti individų motyvaciją ir priversti imtis atitinkamų veiksmų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(Denis McQuail).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inas – tai m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asiškiausias men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Dėl v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zualum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: „Geriau vieną kartą pamatyti nei šimtą kartų išgirsti“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ėl paveikumo (estetinio, emocinio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nkreti žmonių grupė: pakeisti jų požiūrį į reiškinius, vertybes, idėj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si šalies gyventojai: mobilizuoti, sukurti pasitikėjimą šalimi, geopolitine padėtimi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Priešiškos grupės / valstybės: parodyti galią, įbauginti, sumenkinti kitų pasitikėjim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lt-LT" sz="4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inas ideologiniais, propagandiniais tikslais gali būti naudojamas ne tik totalitarinių režimų, bet ir demokratinėse visuomenėse siekiant keisti visuomenės požiūrį, skiepyti naujas vertyb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*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Ar jums yra buvę taip, kad filmas pakeistų jūsų nusistatymą kieno nors atžvilgiu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Vienas iš holivudinio kino kūrėjų, Jungtinių Amerikos Valstijų socialinis ideolog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Garsiausias kūrinys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Nacijos gimimas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(1915)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– pirmasis kino istorijoje propagandinis filma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Filmas buvo naudojamas verbuojant naujus kukluksklano* nariu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Filme juodaodžius vaidino </a:t>
            </a:r>
            <a:r>
              <a:rPr b="0" i="1" lang="lt-LT" sz="3200" spc="-1" strike="noStrike">
                <a:solidFill>
                  <a:srgbClr val="000000"/>
                </a:solidFill>
                <a:latin typeface="Corbel"/>
              </a:rPr>
              <a:t>perdažyti</a:t>
            </a: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 baltaodžiai aktoriai.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457200" y="6126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alibri"/>
              </a:rPr>
              <a:t>*Kukluksklanas – JAV organizacija, pasisakanti už baltųjų rasės viršenybę prieš kitas rases. JAV ši organizacija dažniausiai siejama su judėjimais prieš juodaodžių ras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6868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os vertybės perteikiamos šioje scenoj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kuriamas juodaodžio personažo portreta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okiais kinematografiniais būdais bandoma įtikinti žiūrovą propaguojama ideologij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Corbel"/>
              </a:rPr>
              <a:t>Kaip manote, ar šis filmas paveikus šiandie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6:58:57Z</dcterms:created>
  <dc:creator>Egidijus Jurgelionis</dc:creator>
  <dc:description/>
  <dc:language>en-US</dc:language>
  <cp:lastModifiedBy>R</cp:lastModifiedBy>
  <dcterms:modified xsi:type="dcterms:W3CDTF">2016-01-06T19:40:21Z</dcterms:modified>
  <cp:revision>104</cp:revision>
  <dc:subject/>
  <dc:title>Kinas ir ideologija</dc:title>
</cp:coreProperties>
</file>