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259C1-EAB9-4D5A-9F20-DDC3FAD19519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C5647-1AFC-40EE-B746-6C88B49C913A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455-2D05-4EA3-B0D7-B76CD501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0C28-0221-4537-AC40-DCB9ABE2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5E7-6324-4CAD-8932-B8E34A60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05B-84AE-4E55-B298-1900CEE2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45C4-FBA8-4693-B8C4-7D0F34E7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57F1-1EBD-49EF-8F73-785E8E12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6263-E71C-4392-ADFF-291639E5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D97D-2156-4470-BB56-A95F08AF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C16F-CE05-4826-8F7A-12C758F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30B-C912-416C-9CF2-F0CA011D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1A03-0663-4F5C-A221-D5AE81A8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5BA0-0D39-44D1-92AC-CD9EF462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50BA-93FC-4D62-BBD0-7683053E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294F-5CCB-4CEE-8656-96CDAE93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89B-4625-4063-ADD4-DE1F35E4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4271-4622-4E23-8BE5-A1760977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BF14-2707-4BCB-9490-B19F3F0D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691F9-80CA-4C5B-BE34-2174D598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FEC4-35C0-4CEA-A9F3-A5CB5F7E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E10E0-3226-479A-B8E0-7798305F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B0F3-0AA5-4883-89D0-CB083211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A9E2-3AB6-40EF-B2E5-E223492D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CD4E-03D0-41B9-9D75-EC3AE1FF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006D-F7DA-47AA-9742-D2BC2FDF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40E2-6181-4A00-9DBE-8D2E60D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FEB2-EBFB-4410-B807-70C85B8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A977-8ECF-488D-AC17-87361FD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13CAC-B9C8-4024-8A22-975EC7F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2675-2D69-454F-998B-9A085AF7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DFF8-904C-46D7-AA48-40616EED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581A-70A0-44BC-8279-F35B9A3D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3D31B-ED23-4756-87F0-D96362BB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EA91-7BB6-4B2C-A822-AA13187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F92-64B1-4B4B-B97F-5AAF1297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EB96-1EA6-4CB5-A23D-5294ADE3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B1524-F74D-4BA8-8506-FB844F1D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C8912-CED5-4ED0-AD73-9BB6AC2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D98B-7169-48A1-9560-03C9198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4D27-F886-4121-942D-F7A42F3E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B78AF-DDC3-4DA0-9C61-5BE01A53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DF4C-BE3C-4315-A9D9-9C67D627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8FD6-B0FA-443F-B4DA-2DCC3096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AD1C-6A5F-4DD4-AA76-B934F68F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641C4-504F-4926-9D58-9F013E0E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CF4-978F-4D5F-87CA-ACB6D27B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8BB80-3BBC-449E-BD55-93FDB889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4E32-FFC9-4741-ADCF-9F81B5D6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6B15D-65A5-4AA2-8C33-9E2825EA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7AB29-5F52-4E9F-83F4-AB78958E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552A-1A41-4122-B1E9-3CD842A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EAE7A-6270-4E72-8C5B-BED0761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93B13-39AC-4C0E-A6D0-F908AD1C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42844-B491-4CE7-AD3D-4D03883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01CF-2C7F-48E1-A75E-C827C4A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03546-89CE-4F5B-9E7D-97DA2FC7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E7C-A62A-4EAE-8A4C-0AAEFC03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CF4D3-18A9-4A61-801D-0E6CFF82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85B6D-DE79-4690-ABB9-8683DEDC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F7CB-276C-4D5B-BD4D-481A587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6FD6B-3694-4660-A50C-BC0E63B7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F43AB-E193-4339-9871-17BDBC6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6728-A5D2-4EC1-BA36-34F7F24A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3D0A5-6B17-4BEF-89CA-2EA147C8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9DDB-035B-4FEA-95F4-C32338D8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045C-7ADF-4414-8BD3-70380E25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816C-806B-4FB1-9179-32A11347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9CC-5630-4E79-81B0-FA59A6AF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B6309-6795-423A-A2F8-AA08B8A9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AE3AC-B325-45AA-8F48-0757EF25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C1777-0DBD-4691-B112-7CF01084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FFC82-7648-4DD7-9CD4-1CF6C034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4D628-A80C-4A18-9950-BDABBAC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3E64E-22BC-4C97-8948-F2389D4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DDD61-6AEC-4516-900B-DCE02D44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28EFB-88FD-4D3E-A198-259930CC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B68A-D93D-4DE8-832E-7498D4C0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806A-D53A-4F14-B4E7-C4834BF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DD5-76E2-488E-90F3-F3072786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D85CA-F985-4F05-BD6A-902919C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F47B6-444F-4B46-9170-2EFAEDDA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9498-0752-4211-930B-5DDDE3F3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4143D-2D03-49C4-B527-A16A8423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4329-E848-498C-BAEF-F614D2A3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F49-CF73-4611-AC4A-54B4FD0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B581F-DE9C-4386-9EA9-F3D1D21C7022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02954-837B-49FE-AAC9-E84C4E28B837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F96D3-93D6-4019-8D8D-C4ED04923F84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2FF9F-4251-49DF-862D-BD4361D29D88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DB710-3601-4F2A-9033-05E24B165C26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0DFA9-92CC-46A6-8C9F-E45E4D2B592E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1448C-63C6-4188-A865-CE6B4CDA1B7B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42CCF-9AAF-4F35-B175-110AAD4774A4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268366-5A89-4940-B035-A71C15F33215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71A71-C1DF-4606-AF2F-3B061AB8B34F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A5102-B488-4FC1-92B3-210D64C20BEA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5AF92-3EF6-4A07-B29E-285D2F13AF5C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141D1-48E3-4B2E-81BF-4487DD5C68CD}" type="datetime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77BB0-E52D-4027-AE21-715BA1F4F06D}" type="slidenum">
              <a:rPr b="0" lang="lt-L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Žurnalistika, reklama ir viešieji ryši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Candara"/>
              </a:rPr>
              <a:t>Kaip atskirti žurnalisto, reklamos kūrėjo ir viešųjų ryšių specialisto pranešimus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95280" y="2565000"/>
            <a:ext cx="8569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900" spc="-1" strike="noStrike">
                <a:solidFill>
                  <a:srgbClr val="073e87"/>
                </a:solidFill>
                <a:latin typeface="Candara"/>
              </a:rPr>
              <a:t>Profesionaliai paruoštas viešųjų ryšių pranešimas kartais būna visiškai toks pat, kaip žurnalisto parengtas tekstas. 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  <a:p>
            <a:pPr marL="231840" indent="-231840">
              <a:spcBef>
                <a:spcPts val="72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900" spc="-1" strike="noStrike">
                <a:solidFill>
                  <a:srgbClr val="073e87"/>
                </a:solidFill>
                <a:latin typeface="Candara"/>
              </a:rPr>
              <a:t>Gerai dirbantis viešųjų ryšių specialistas gali parengti straipsnį, atitinkantį visus žurnalistiniam tekstui keliamus reikalavimus – pateikti kelias nuomones, atskleisti tendenciją, patenkinti visuomenės interesus, tačiau drauge atspindėti ir atstovaujamos organizacijos vertybes. </a:t>
            </a:r>
            <a:endParaRPr b="0" lang="en-US" sz="2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Verta žinoti</a:t>
            </a:r>
            <a:r>
              <a:rPr b="1" lang="lt-LT" sz="4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Reklamos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0" name="Skaidrės numerio vietos rezervavimo ženklas 4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A763C-EC0A-43B3-B91D-6D836DE7C7DF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Content Placeholder 5" descr="show_foto.jpg"/>
          <p:cNvPicPr/>
          <p:nvPr/>
        </p:nvPicPr>
        <p:blipFill>
          <a:blip r:embed="rId1"/>
          <a:stretch/>
        </p:blipFill>
        <p:spPr>
          <a:xfrm>
            <a:off x="5087880" y="1600200"/>
            <a:ext cx="3159360" cy="2133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Untitled.jpg"/>
          <p:cNvPicPr/>
          <p:nvPr/>
        </p:nvPicPr>
        <p:blipFill>
          <a:blip r:embed="rId2"/>
          <a:stretch/>
        </p:blipFill>
        <p:spPr>
          <a:xfrm>
            <a:off x="5087880" y="3809880"/>
            <a:ext cx="3159360" cy="25336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3"/>
          <p:cNvSpPr/>
          <p:nvPr/>
        </p:nvSpPr>
        <p:spPr>
          <a:xfrm>
            <a:off x="539640" y="51800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Šaltinis: www.kauno.diena.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Content Placeholder 6" descr="ac353ffd7e823a29cb1a463d806923d3_600.jpg"/>
          <p:cNvPicPr/>
          <p:nvPr/>
        </p:nvPicPr>
        <p:blipFill>
          <a:blip r:embed="rId3"/>
          <a:stretch/>
        </p:blipFill>
        <p:spPr>
          <a:xfrm>
            <a:off x="457200" y="2089080"/>
            <a:ext cx="337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6" descr="Zurnal-pranes.jpg"/>
          <p:cNvPicPr/>
          <p:nvPr/>
        </p:nvPicPr>
        <p:blipFill>
          <a:blip r:embed="rId1"/>
          <a:stretch/>
        </p:blipFill>
        <p:spPr>
          <a:xfrm>
            <a:off x="1042920" y="2505240"/>
            <a:ext cx="6913800" cy="4109760"/>
          </a:xfrm>
          <a:prstGeom prst="rect">
            <a:avLst/>
          </a:prstGeom>
          <a:ln w="0">
            <a:noFill/>
          </a:ln>
        </p:spPr>
      </p:pic>
      <p:sp>
        <p:nvSpPr>
          <p:cNvPr id="376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E31E4-2E4C-4D31-AECE-CA792C67048A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Žurnalistinis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ontent Placeholder 3" descr="pr-pran.jpg"/>
          <p:cNvPicPr/>
          <p:nvPr/>
        </p:nvPicPr>
        <p:blipFill>
          <a:blip r:embed="rId1"/>
          <a:stretch/>
        </p:blipFill>
        <p:spPr>
          <a:xfrm>
            <a:off x="539640" y="2708280"/>
            <a:ext cx="8304480" cy="4037040"/>
          </a:xfrm>
          <a:prstGeom prst="rect">
            <a:avLst/>
          </a:prstGeom>
          <a:ln w="0">
            <a:noFill/>
          </a:ln>
        </p:spPr>
      </p:pic>
      <p:sp>
        <p:nvSpPr>
          <p:cNvPr id="379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953DC-FF57-435A-A952-4BA83B03C61B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ffffff"/>
                </a:solidFill>
                <a:latin typeface="Candara"/>
              </a:rPr>
              <a:t>Viešųjų ryšių pranešim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200" y="2565000"/>
            <a:ext cx="7815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Prižiūrėti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 socialinę bei politinę aplinką, pranešti apie pasikeitimus, kurie gali turėti teigiamos arba neigiamos įtakos piliečiams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Nustatyti 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prasmingą visuomenės diskusijų eigą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Suteikti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 tribūną piliečiams, politikams bei interesų grupėms išsakyti savo požiūrį ar apsiginti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73e87"/>
                </a:solidFill>
                <a:latin typeface="Candara"/>
              </a:rPr>
              <a:t>Skatinti </a:t>
            </a: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įvairių nuomonių dialogą, palengvinti jį tarp valdžios pareigūnų ir visuomenės atstovų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3F3A9-C335-4437-9A7A-5266E2A2273D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Žurnalistikos tikslai ir pareigo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755640" y="2674440"/>
            <a:ext cx="8137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Sudom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artotojus preke, paslauga ar idėja (labdaros akcija, politine partija ar pan.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Populiar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prekes, paslaugas ar idėja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Paskat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pirkti, balsuoti (už) ir t. t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C398B-F0BA-46BE-88A7-1F348C92A2D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Reklamos tiksl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611280" y="2674440"/>
            <a:ext cx="83534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Informuo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isuomenę apie prekes, įvykius, tendencijas ir kt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Kurti 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gerą organizacijos ar asmens įvaizdį visuomenės akyse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73e87"/>
                </a:solidFill>
                <a:latin typeface="Candara"/>
              </a:rPr>
              <a:t>Skatinti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 visuomenę palaikyti organizaciją, idėją, prekės ženklą ar asmenį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45F30-BD22-4CB8-8F9B-55F3FA4AAD98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ffffff"/>
                </a:solidFill>
                <a:latin typeface="Candara"/>
              </a:rPr>
              <a:t>Viešųjų ryšių tiksla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Žurnalistai turi nuolatos pateikti naujienas, tačiau kasdien sugalvoti po kelias temas sudėtinga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Temas ar tekstus siūlo viešųjų ryšių specialistai, kurie dirba tarsi tarpininkai tarp žurnalistų ir organizacijų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s bendra tarp v</a:t>
            </a:r>
            <a:r>
              <a:rPr b="1" lang="cs-CZ" sz="4000" spc="-1" strike="noStrike">
                <a:solidFill>
                  <a:srgbClr val="ffffff"/>
                </a:solidFill>
                <a:latin typeface="Candara"/>
              </a:rPr>
              <a:t>iešųjų ryšių ir žurnalistikos</a:t>
            </a: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11280" y="2565360"/>
            <a:ext cx="835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a yra kova už vartotojų pinigus, o viešieji ryšiai yra kova už visuomenės protą“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uojama parduodama prekė, o viešaisiais ryšiais siekiama visuomenės palankumo ir paramo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Reklamuojama fragmentiškai, o viešaisiais ryšiais formuojamas ilgalaikis įvaizdis visuomenėje, kuriamas pasitikėjimas ir užsitikrinama jos parama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450B2-F374-42CE-B8B6-520893CF68DB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uo skiriasi reklama ir viešieji ryšiai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63400" y="2346120"/>
            <a:ext cx="828072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Žurnalistika – gana fragmentiška veikla, nes žurnalistas rengia tas temas, kurios jam atrodo įdomios, kokią informaciją gauna ir pan. Viešųjų ryšių specialistas laikosi komunikacijos tęstinumo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73e87"/>
                </a:solidFill>
                <a:latin typeface="Candara"/>
              </a:rPr>
              <a:t>Žurnalistas naudoja vieną kanalą informacijai pateikti – masinės komunikacijos priemones.  Viešųjų ryšių specialistas naudoja jų daugiau – socialinius tinklus, renginius ir pan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Skaidrės numerio vietos rezervavimo ženklas 2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57411-A16B-4446-9357-769F96A77E03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uo skiriasi žurnalistika ir viešieji ryšiai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84000" y="2565000"/>
            <a:ext cx="8135640" cy="40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Reklama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Tai pats geriausias sviestas!“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Viešieji ryšiai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Tai geras sviestas, nes pagamintas pagal senąsias lietuviškos kulinarijos tradicijas ir gaminamas iš natūralaus lietuviškos karvutės pieno“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Žurnalistika: 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„Visuomenės nuomonės apklausos rodo, kad tai geras sviestas, tačiau specialistų vertinimai 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prieštaringi</a:t>
            </a:r>
            <a:r>
              <a:rPr b="0" lang="cs-CZ" sz="3000" spc="-1" strike="noStrike">
                <a:solidFill>
                  <a:srgbClr val="073e87"/>
                </a:solidFill>
                <a:latin typeface="Candara"/>
              </a:rPr>
              <a:t>“</a:t>
            </a:r>
            <a:r>
              <a:rPr b="0" lang="lt-LT" sz="3000" spc="-1" strike="noStrike">
                <a:solidFill>
                  <a:srgbClr val="073e87"/>
                </a:solidFill>
                <a:latin typeface="Candara"/>
              </a:rPr>
              <a:t>. 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B6E3D-4D57-429A-9DEF-4A75C2154777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ip skiriasi pranešimų stilius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67840" y="2420640"/>
            <a:ext cx="8713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Dažnai informacija pateikiama iš vieno šaltinio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Minimas vienas prekės ženklas ar organizacija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Pateikiama vienos organizacijos naujiena, o ne skirtingi vertinimai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73e87"/>
                </a:solidFill>
                <a:latin typeface="Candara"/>
              </a:rPr>
              <a:t>Kartais būna pažymėta ženklais </a:t>
            </a:r>
            <a:r>
              <a:rPr b="0" lang="cs-CZ" sz="3200" spc="-1" strike="noStrike">
                <a:solidFill>
                  <a:srgbClr val="073e87"/>
                </a:solidFill>
                <a:latin typeface="Candara"/>
              </a:rPr>
              <a:t>„PR“, „R“, „Užs.“, „Parengta bendradarbiaujant su...“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Skaidrės numerio vietos rezervavimo ženklas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A3157-B89F-442B-928F-D27F96375829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38040"/>
            <a:ext cx="91440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ffffff"/>
                </a:solidFill>
                <a:latin typeface="Candara"/>
              </a:rPr>
              <a:t>Kaip atpažinti viešųjų ryšių pranešimą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07:00:09Z</dcterms:created>
  <dc:creator>Egidijus Jurgelionis</dc:creator>
  <dc:description/>
  <dc:language>en-US</dc:language>
  <cp:lastModifiedBy>Gražina Jurgutavičiūtė</cp:lastModifiedBy>
  <dcterms:modified xsi:type="dcterms:W3CDTF">2015-12-28T15:08:16Z</dcterms:modified>
  <cp:revision>72</cp:revision>
  <dc:subject/>
  <dc:title>Žurnalistika, reklama ir viešieji ryšiai</dc:title>
</cp:coreProperties>
</file>